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applause.wav" ContentType="audio/x-wav"/>
  <Override PartName="/ppt/media/drumroll.wav" ContentType="audio/x-wav"/>
  <Override PartName="/ppt/media/glass.wav" ContentType="audio/x-wav"/>
  <Override PartName="/ppt/media/cashreg.wav" ContentType="audio/x-wav"/>
  <Override PartName="/ppt/media/ricochet.wav" ContentType="audio/x-wav"/>
  <Override PartName="/ppt/media/image4.jpeg" ContentType="image/jpeg"/>
  <Override PartName="/ppt/media/laser.wav" ContentType="audio/x-wav"/>
  <Override PartName="/ppt/media/image3.png" ContentType="image/png"/>
  <Override PartName="/ppt/media/camera.wav" ContentType="audio/x-wav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3B7-D8EB-4E00-89C2-2B1DE0BC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ECE-9D71-4D2B-8E5A-3B2E569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993-3BD0-47D8-93F9-D964018E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198-F0AC-4B81-98EF-48142E91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1E4-16F0-415E-AA11-D46D84F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AC7-83AD-4C13-8139-9F2A029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F11-631E-43FA-96C3-A50B9E7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F4E-F353-42ED-B9F9-D57ED53C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64C-9131-4210-8A88-FC4F093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525-DBA3-41F4-984B-A1EA37C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F2E-6885-4E7C-AFE7-9B66D91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E6F-081B-4D14-8321-3CEC100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298-5DBC-465D-A80E-E1945AF79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U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 3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y’s Trea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merica undisputed sovereignty over the entire Northw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rily eased US conflict with Great Bri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immediate cause for formation of Democratic Republican P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nckney Treaty of 179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ized relations w/ Spain (they gave us things due to a fear of an Anglo-American alliance against th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ted free navigation of the Mississippi to the US including right of deposit at New Orleans (impt. p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in conceded large area north of Florida that had been in dis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rewell Add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rmanent alliances; but temporary on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are 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spoke of domestic issues: evils of political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ionism became dominant foreign policy for the next 100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796 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hird term tra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ms (Federalist) is President; Jefferson (D-Republican) is Vice President (71-66 electoral vo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ly transfer of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ms Presid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XYZ Affai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French agents demanded $$ to speak with foreign minis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Quasi-War with Franc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undeclared naval war from 1798-1799 (10,000 man army authorized, Navy Dept created, Marines establish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ien and Sedition Act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designed to reduce power of Jeffersonian foes and silence anti-war opposition (1798): Sedition Act very unconstitutional but was not struck down immediately b/c Supreme Court was Federalist (law died in 180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Virginia and Kentucky Resol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states had the right to nullify unconstitutional laws passed by Congr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ion of 180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ublicans Win, but Burr and Jefferson have 73 votes each (led to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mend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ceful Transition of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diciary Act of 18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reduced the size of the Supreme Court from six justices to five; the Federalist Congress passed to increase the number of federal courts and judicial positions; President John Adams rushed to fill these positions with Federalists before his term ended. (aka Midnight judges a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rowing 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Picture 3" descr="N:\HOME\ERCROWTH\maps\US_Terr_1790.jpg"/>
          <p:cNvPicPr/>
          <p:nvPr/>
        </p:nvPicPr>
        <p:blipFill>
          <a:blip r:embed="rId1"/>
          <a:stretch/>
        </p:blipFill>
        <p:spPr>
          <a:xfrm>
            <a:off x="533520" y="1581120"/>
            <a:ext cx="8229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merican Peoples-179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9 million inhabitants—we used to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ls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,000 African Americans; over 660,000 were sl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,000 Native Americans—not enumerated on c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8% of counted inhabitants were under age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1786, even defenders of the Articles of Confederation accepted the fact that which of the following needed to be strength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wer to tax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ecutiv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 syste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rm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Federalist E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wing Pains of a New Government, 1789-18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4" descr="N:\HOME\ERCROWTH\u. s. history\washington.gif"/>
          <p:cNvPicPr/>
          <p:nvPr/>
        </p:nvPicPr>
        <p:blipFill>
          <a:blip r:embed="rId1"/>
          <a:stretch/>
        </p:blipFill>
        <p:spPr>
          <a:xfrm>
            <a:off x="1905120" y="1752480"/>
            <a:ext cx="211140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N:\HOME\ERCROWTH\u. s. history\john adams.gif"/>
          <p:cNvPicPr/>
          <p:nvPr/>
        </p:nvPicPr>
        <p:blipFill>
          <a:blip r:embed="rId2"/>
          <a:stretch/>
        </p:blipFill>
        <p:spPr>
          <a:xfrm>
            <a:off x="4952880" y="1752480"/>
            <a:ext cx="220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hing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Presidency of Preced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inet—Adams (VP), Jefferson (Sec of State), Hamilton (Sec of Treasury), Randolph (A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W Unanimously chosen as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inet notorious for bickering b/w TJ and 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ll of Righ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 Rights and Liberties—Amendments 1 through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ghts and Personal Freedom—Amendments 9 and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nd only national government, not state government, unt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important issue left unaddressed when the Constitutional Convention adjourned wa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question of counting slaves for representatio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o have an executive or no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bsence of a list of individual right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question of the power of the national government to tax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mil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Sche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iff of 178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Report on Public Credit (17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Report on Public Credit (Excise Tax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a National 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a National M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n Manufa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N:\HOME\ERCROWTH\u. s. history\hamilton.gif"/>
          <p:cNvPicPr/>
          <p:nvPr/>
        </p:nvPicPr>
        <p:blipFill>
          <a:blip r:embed="rId1"/>
          <a:stretch/>
        </p:blipFill>
        <p:spPr>
          <a:xfrm>
            <a:off x="480060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quences of Hamilton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 Sche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nd sectional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tional Issues—What i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essary and prop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Schism—genesis of First Party System—Federalist v. Republ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skey Rebe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er National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ign &amp; Indian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nch Revolution—Citizen G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y of Green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ckney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5:44:34Z</dcterms:created>
  <dc:creator>Press Enter to Logon</dc:creator>
  <dc:description/>
  <dc:language>en-US</dc:language>
  <cp:lastModifiedBy>Mark Scacewater</cp:lastModifiedBy>
  <dcterms:modified xsi:type="dcterms:W3CDTF">2012-10-04T04:45:58Z</dcterms:modified>
  <cp:revision>18</cp:revision>
  <dc:subject/>
  <dc:title>The Federalist Era</dc:title>
</cp:coreProperties>
</file>